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A48-251E-4234-A479-E98B479B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DE0-BE6A-4325-BDB5-F1157130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139-B401-45D5-9BEE-E291AC3D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11A-B885-4C36-8DB7-09912323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F87-19A6-4D0E-A5F9-8212264D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A7E-0904-4A09-A43D-09B0B275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C5E-CE86-4E21-8498-8D622EC5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E78-3A5C-4033-8C88-0951B394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762-86A0-48DE-878B-D160D910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73E-A8E4-4409-A985-62C02878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ED6-D6FE-424E-A29A-2968D7DE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86E-AD5A-49C5-BE1A-F662304E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75C0-5EB3-4159-9E04-97AC73FD7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in%20título-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in%20título-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07:56:17Z</dcterms:created>
  <dc:creator>Grupo Editorial</dc:creator>
  <dc:description/>
  <dc:language>en-US</dc:language>
  <cp:lastModifiedBy>Grupo Editorial</cp:lastModifiedBy>
  <dcterms:modified xsi:type="dcterms:W3CDTF">2001-09-28T08:00:39Z</dcterms:modified>
  <cp:revision>1</cp:revision>
  <dc:subject/>
  <dc:title>Sin título de diapositiva</dc:title>
</cp:coreProperties>
</file>